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0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3C2-4CF0-473C-9164-B58CC025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524-8487-4258-8F62-EFF6667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C9A-B222-4F81-867A-427BBB3B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AA1-F8EE-4B8F-84FE-5BA19A5E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7CD5E-3071-4D21-9449-F037B7BD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3424E-D301-4D2F-AF7E-B302562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A0E36-E952-40E2-A33B-36CEFB4B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70F53-F6F1-4B21-AA1A-10D6F7D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8172-4DDC-4205-AC07-BB8D980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4B51A-9915-4A7F-B824-6C8CBFC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B3D4E-B007-4772-BA0C-10294AE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BCD-67B3-4FB0-9775-B551657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412B5-3498-41C1-825C-B15FB3C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66D6-C486-483E-A60E-218CF7FC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9F384-C7B6-4D13-AE9C-3828032F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5D74-C024-4B1C-9644-34511D8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28494-5F9E-43AF-B3F6-86911C41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AA3-9B72-4884-ADA6-A955835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931-D45B-4A81-831A-0355E8D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22C-D730-4151-B450-992E8AB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06E-DC13-4C74-8419-38D6953F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435-0849-43C7-BC85-DC9C721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B45-D544-4F99-B5E7-1FD3BBAA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25C-D36F-4D2D-A554-BFC6FF9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003-F1BA-4FAE-BC4C-EE525F9C8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5CAF-6E4C-4B48-A4D8-3BFCFAC293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stward H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Pioneers on the Oregon T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gons West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“Prairie Schooners”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1933560" cy="236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610080" cy="1844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95272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ild Animal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4037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CA" sz="3600" spc="-1" strike="noStrike">
                <a:solidFill>
                  <a:srgbClr val="e3e3ff"/>
                </a:solidFill>
                <a:latin typeface="Arial"/>
              </a:rPr>
              <a:t>Fording the River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071520" cy="230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3544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dian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405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ccident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532240" cy="324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2568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ath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583080" cy="2384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059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Illnes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5416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hildbirth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6240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Hunger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8432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irs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7414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Manifest Destin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352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Milestone</a:t>
            </a:r>
            <a:br>
              <a:rPr sz="4400"/>
            </a:br>
            <a:r>
              <a:rPr b="0" lang="en-CA" sz="3600" spc="-1" strike="noStrike">
                <a:solidFill>
                  <a:srgbClr val="e3e3ff"/>
                </a:solidFill>
                <a:latin typeface="Arial"/>
              </a:rPr>
              <a:t>Chimney Rock, Nebrask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0160" y="4951800"/>
            <a:ext cx="753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ble for miles, this landmark along the Oregon Trail was mentio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frequently than any other natural feature in the diaries of pioneer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958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751120" cy="3230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3463920" cy="22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30258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46280" cy="229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867120" cy="2278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2998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lack &amp; Jewish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940200" cy="2814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45241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1984320" cy="2765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254400" cy="1911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666880" y="3352680"/>
            <a:ext cx="36021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51600" cy="2981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32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48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51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56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End of the Trail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Oregon Territor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89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ionee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e who ventures into unknown or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unclaimed territory to sett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0500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84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684600" cy="2759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162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4030560" cy="2776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5928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Other Trails West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uth Pass (wide valley through the Rocky Mt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ante Fe Trail (800 miles, Missouri to Sante F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rmon Trail (Illinois to Ut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Start of the Trail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Independence, Missouri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8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 Missouri to the Oregon Territory; 2,00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isks and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000 people in 1843; 2,000 in 18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hite people to cross were missio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gon Fever has broken out and is now raging.” (Boston newsp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455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003560" cy="279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70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2778120" cy="182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052800" cy="189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2641680" cy="191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2760840" cy="183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181480" y="3581280"/>
            <a:ext cx="3025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gons West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“Prairie Schooners”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2286000" cy="212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641680" cy="207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760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16:24Z</dcterms:created>
  <dc:creator>epilla</dc:creator>
  <dc:description/>
  <dc:language>en-US</dc:language>
  <cp:lastModifiedBy>epilla</cp:lastModifiedBy>
  <dcterms:modified xsi:type="dcterms:W3CDTF">2011-05-19T13:15:58Z</dcterms:modified>
  <cp:revision>26</cp:revision>
  <dc:subject/>
  <dc:title>“Give us the Vote!”</dc:title>
</cp:coreProperties>
</file>